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18.jpeg" ContentType="image/jpeg"/>
  <Override PartName="/ppt/media/image7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hammer.wav" ContentType="audio/x-wav"/>
  <Override PartName="/ppt/media/image13.png" ContentType="image/pn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7B41-B3E0-400C-98D4-DF10BF9B8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32F2-EF14-40C8-9B10-78C9AE44C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CEA3-5384-4CE7-A1A1-0130E320D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D981-D78A-4B25-AD2E-3ECF646D9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584BB-10D0-499D-95FB-067112162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13F4E-E46A-4E72-8F4D-BE6A92A10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1750A-A2AD-4FAC-AFBC-06FAB5B6E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0DD2E-03A6-48D6-9926-C521ECD9F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CED8D-A2D1-4A51-B2E9-241FF0FFC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35B4E-0581-4E1F-A016-FD84F7C89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FA591-8976-41BE-BDB9-71A03FB44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FEC3-F702-47D9-9B1A-BCCE144EB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F7B4F-8BFA-4E6D-BF1A-1B61231BB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6EE3F-6854-409E-9791-41A29B31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30C10-AF2F-46B9-B754-E3716AA08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831D9-2A63-42BA-B954-258218CA0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F082F-759C-4478-8EEB-5E1FAC651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5799-0432-4B8A-B4A8-FD26CF687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BDC5-6495-4DC4-9F18-34C94793B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CADC-BAB7-4A1B-92ED-66AA31ADC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FFFE-1593-44C1-9F40-D67651573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24FB-44F5-48E3-8725-850B0703A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7DAE-313F-4F8C-B3DE-3F653B25A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982C-7A63-4D79-A3BB-C6A45EDD9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4AC03-6D24-4892-B311-1A461CA4B5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D1DF5-23A1-4B37-9ACA-8DAAC80D1C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audio" Target="../media/hammer.wav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audio" Target="../media/hammer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14.xml"/><Relationship Id="rId3" Type="http://schemas.openxmlformats.org/officeDocument/2006/relationships/slide" Target="slide13.xml"/><Relationship Id="rId4" Type="http://schemas.openxmlformats.org/officeDocument/2006/relationships/slide" Target="slide12.xml"/><Relationship Id="rId5" Type="http://schemas.openxmlformats.org/officeDocument/2006/relationships/slide" Target="slide11.xml"/><Relationship Id="rId6" Type="http://schemas.openxmlformats.org/officeDocument/2006/relationships/slide" Target="slide10.xml"/><Relationship Id="rId7" Type="http://schemas.openxmlformats.org/officeDocument/2006/relationships/slide" Target="slide9.xml"/><Relationship Id="rId8" Type="http://schemas.openxmlformats.org/officeDocument/2006/relationships/slide" Target="slide8.xml"/><Relationship Id="rId9" Type="http://schemas.openxmlformats.org/officeDocument/2006/relationships/slide" Target="slide7.xml"/><Relationship Id="rId10" Type="http://schemas.openxmlformats.org/officeDocument/2006/relationships/slide" Target="slide6.xml"/><Relationship Id="rId11" Type="http://schemas.openxmlformats.org/officeDocument/2006/relationships/slide" Target="slide5.xml"/><Relationship Id="rId12" Type="http://schemas.openxmlformats.org/officeDocument/2006/relationships/audio" Target="../media/hammer.wav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4.xml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4.xml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4.xml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Newton’s First Law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24000" y="3886200"/>
            <a:ext cx="849600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object at rest will stay at rest, and an object in motion wil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y in motion in a constant speed and direction, unles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ed upon by an outside for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867280" y="6237360"/>
            <a:ext cx="32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Lady Ja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hammer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b7e7ff"/>
                </a:solidFill>
                <a:latin typeface="Arial"/>
              </a:rPr>
              <a:t>Deck 5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806480" y="1676520"/>
            <a:ext cx="5529240" cy="44226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80320" y="1844640"/>
            <a:ext cx="6069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hammer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b7e7ff"/>
                </a:solidFill>
                <a:latin typeface="Arial"/>
              </a:rPr>
              <a:t>Deck 6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806480" y="1676520"/>
            <a:ext cx="5529240" cy="44226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80320" y="1844640"/>
            <a:ext cx="6069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hammer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b7e7ff"/>
                </a:solidFill>
                <a:latin typeface="Arial"/>
              </a:rPr>
              <a:t>Deck 7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806480" y="1676520"/>
            <a:ext cx="5529240" cy="44226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80320" y="1844640"/>
            <a:ext cx="6069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hammer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b7e7ff"/>
                </a:solidFill>
                <a:latin typeface="Arial"/>
              </a:rPr>
              <a:t>Deck 8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806480" y="1676520"/>
            <a:ext cx="5529240" cy="44226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580320" y="1844640"/>
            <a:ext cx="6069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hammer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b7e7ff"/>
                </a:solidFill>
                <a:latin typeface="Arial"/>
              </a:rPr>
              <a:t>Deck 9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806480" y="1676520"/>
            <a:ext cx="5529240" cy="44226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80320" y="1844640"/>
            <a:ext cx="6069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hammer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b7e7ff"/>
                </a:solidFill>
                <a:latin typeface="Arial"/>
              </a:rPr>
              <a:t>Ship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806480" y="1676520"/>
            <a:ext cx="5529240" cy="44226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80320" y="1844640"/>
            <a:ext cx="6069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hammer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3684600" cy="18748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40360" y="189000"/>
            <a:ext cx="4732200" cy="37036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324000" y="4149720"/>
            <a:ext cx="5041800" cy="18939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4" name="hammer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901800" y="228600"/>
            <a:ext cx="7338960" cy="58705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284720" y="4076640"/>
            <a:ext cx="3956040" cy="1314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4500720" y="836640"/>
            <a:ext cx="3541680" cy="2324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4" name="hammer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901800" y="228600"/>
            <a:ext cx="7338960" cy="58705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95280" y="1341360"/>
            <a:ext cx="1008000" cy="40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ffcc00"/>
                </a:solidFill>
                <a:uFillTx/>
                <a:latin typeface="Arial"/>
                <a:hlinkClick r:id="rId3" action="ppaction://hlinksldjump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ffcc00"/>
                </a:solidFill>
                <a:uFillTx/>
                <a:latin typeface="Arial"/>
                <a:hlinkClick r:id="rId4" action="ppaction://hlinksldjump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ffcc00"/>
                </a:solidFill>
                <a:uFillTx/>
                <a:latin typeface="Arial"/>
                <a:hlinkClick r:id="rId5" action="ppaction://hlinksldjump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ffcc00"/>
                </a:solidFill>
                <a:uFillTx/>
                <a:latin typeface="Arial"/>
                <a:hlinkClick r:id="rId6" action="ppaction://hlinksldjump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ffcc00"/>
                </a:solidFill>
                <a:uFillTx/>
                <a:latin typeface="Arial"/>
                <a:hlinkClick r:id="rId7" action="ppaction://hlinksldjump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ffcc00"/>
                </a:solidFill>
                <a:uFillTx/>
                <a:latin typeface="Arial"/>
                <a:hlinkClick r:id="rId8" action="ppaction://hlinksldjump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ffcc00"/>
                </a:solidFill>
                <a:uFillTx/>
                <a:latin typeface="Arial"/>
                <a:hlinkClick r:id="rId9" action="ppaction://hlinksldjump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ffcc00"/>
                </a:solidFill>
                <a:uFillTx/>
                <a:latin typeface="Arial"/>
                <a:hlinkClick r:id="rId10" action="ppaction://hlinksldjump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ffcc00"/>
                </a:solidFill>
                <a:uFillTx/>
                <a:latin typeface="Arial"/>
                <a:hlinkClick r:id="rId11" action="ppaction://hlinksldjump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12" name="hammer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b7e7ff"/>
                </a:solidFill>
                <a:latin typeface="Arial"/>
              </a:rPr>
              <a:t>Deck 0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806480" y="1676520"/>
            <a:ext cx="5529240" cy="44226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80320" y="1844640"/>
            <a:ext cx="6069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49400" y="3382920"/>
            <a:ext cx="4284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3" name="hammer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b7e7ff"/>
                </a:solidFill>
                <a:latin typeface="Arial"/>
              </a:rPr>
              <a:t>Deck 1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806480" y="1676520"/>
            <a:ext cx="5529240" cy="44226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80320" y="1844640"/>
            <a:ext cx="6069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3" name="hammer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b7e7ff"/>
                </a:solidFill>
                <a:latin typeface="Arial"/>
              </a:rPr>
              <a:t>Deck 2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806480" y="1676520"/>
            <a:ext cx="5529240" cy="44226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80320" y="1844640"/>
            <a:ext cx="6069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3" name="hammer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b7e7ff"/>
                </a:solidFill>
                <a:latin typeface="Arial"/>
              </a:rPr>
              <a:t>Deck 3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806480" y="1676520"/>
            <a:ext cx="5529240" cy="4422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80320" y="1844640"/>
            <a:ext cx="6069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hammer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b7e7ff"/>
                </a:solidFill>
                <a:latin typeface="Arial"/>
              </a:rPr>
              <a:t>Deck 4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806480" y="1676520"/>
            <a:ext cx="5529240" cy="44226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80320" y="1844640"/>
            <a:ext cx="6069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hammer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1T04:57:53Z</dcterms:created>
  <dc:creator>Curufea Cubelegand</dc:creator>
  <dc:description/>
  <dc:language>en-US</dc:language>
  <cp:lastModifiedBy>Curufea Cubelegand</cp:lastModifiedBy>
  <dcterms:modified xsi:type="dcterms:W3CDTF">2003-11-02T01:03:55Z</dcterms:modified>
  <cp:revision>39</cp:revision>
  <dc:subject/>
  <dc:title>Newton’s First Law</dc:title>
</cp:coreProperties>
</file>